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01868-1E00-4E14-8652-132C64F1A0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4D82E-5D70-4AA9-99B8-6AF74504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6826B-061D-44CB-8748-BC84147B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CB20D-B3E4-4E39-A263-33C702B646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0F11E-ACAF-4CF5-8180-4F163A43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D0ACA-BA16-4883-9B08-E17BF9B9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B3F2E-87DD-4F0B-869B-3E4E242E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EDAA7-AA4F-4DEB-BE21-392D66CD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45975-B84D-472C-B3AB-809C1D85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B03C9-DB0E-4FEF-9917-FE17D682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0E11E-517A-4CD0-BCBF-0B90480C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2B6E7-7274-4905-9257-5816245C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E760-7334-4BAD-AF9A-385FCC26D4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idal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112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0600" y="616572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0600" y="616572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4600" y="6165720"/>
            <a:ext cx="871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talk about the picture with your grou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discuss how tidal power generates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2920" y="640080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y the animation and check if you described the process correctly in exercis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write sentenc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8:05Z</dcterms:modified>
  <cp:revision>29</cp:revision>
  <dc:subject/>
  <dc:title>  </dc:title>
</cp:coreProperties>
</file>